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6B4-0F36-4F14-8218-AC3D3872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915-3B33-43CF-A897-CAA0A6A8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8DB-C3A8-4923-81F0-566589F2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BDD-A0AD-4EF0-BABD-32D1E0E1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D4C-B526-4674-9E2E-5A486A72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4988-71CC-47AB-9D68-39D72B2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9309-0799-4EE2-866B-688204AF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E13-904C-4D42-B920-5AB34C56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3AE0-94C9-47B6-8E01-1C13919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A72F-2030-4A18-BF3C-9445CB0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EC4-BC2D-4F2A-A751-7568BD86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727-98FA-477E-B0BD-13B4E17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D77F-4CB2-444C-BDFA-5BE0CDC3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853-2BE8-4E8F-AA30-F0D0804C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01E1-3165-4005-9295-7F3861E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7CE8-0226-4AEE-AC6D-6384E003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24D2-CA25-49CE-8604-2FAAB4A5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A34-7944-4D49-8DB0-313F5ADF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BA9-FAE7-4041-ADF5-D0747751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50B-41CF-4DAD-ADE6-ABCA81F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847-41F2-4814-A165-5D8FC350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D57-2E52-4127-8E5D-FCEB5B0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0E-153D-4BF0-8A0D-2D9615A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B95-748E-455E-8C41-DDBC9070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8EC5-C0F7-406E-8AFA-2BB3E48733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03B-56A9-4B3E-9FF6-34CA751DA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Exercises of the Tutorial on Advanced Web Programming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38098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hor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roslava Mitrovic (mirka@galeb.etf.bg.ac.y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gan Milicev (emiliced@etf.bg.ac.y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no Stojcic (nstojcic@yubc.n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ljko Milutinovic (vm@etf.bg.ac.y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! Exercise2.htm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SCRIPT LANGUAGE="JavaScript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!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function checkData (theForm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var ReturnVal=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var name=theForm.Name.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var address=theForm.Address.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var age=Number(theForm.Age.value)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if (name=="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lert("Name must not be empty!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lse if (address=="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lert("Address must not be empty!"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lse if (isNaN(age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lert("Age must be non negative number!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lse if (age&lt;0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lert("Age must be non negative number!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else ReturnVal=true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if (ReturnVal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alert("Your order has been submitted")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return Return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//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SCRIPT &gt;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FORM NAME="Form1"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ONSUBMIT="return checkData(this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…………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3: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ke Your Web Form Liv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your web form alive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adding a simple applet to your web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will demonstrate the possibil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reating dynamic cont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a scrolling 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x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!  Exercise3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…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APPLET CODE="Ticker.class" WIDTH=200 HEIGHT=35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PARAM NAME="fontname" VALUE="Times New Roman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PARAM NAME="fontsize" VALUE=24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PARAM NAME="text" VALUE="Fill out this form!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APPLET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SCRIPT LANGUAGE="JavaScript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4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velop Your Own Servle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servlet that accepts the submit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from Exercise 3, and returns a p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he following contents to the use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lo &lt;Mr.|Mrs.|Miss&gt; &lt;Name&gt;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ad to meet you. I’ll stay in contact with y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e-mailing to the address: &lt;Address&gt;. “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Ex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!  Exercise4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SCRIPT&gt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FORM NAME="Form1" ONSUBMIT="retur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eckData(this)"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METHOD="POST" ACTION="../servlet/Exercise4Servlet"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:&amp;nbsp;&amp;nbsp;&amp;nbsp;&amp;nbs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Name" SIZE="25" MAXLENGTH=25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Ex4.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Exercise4Servlet. 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http.*;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Exercise4Servlet extends HttpServlet{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overloading the doPost() method inherited from HttpServlet class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doPost(HttpServletRequest req,HttpServletResponse 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ows ServletException, IOException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setting the content type of response to "text/html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PrintWriter converts Java's Unicode characters to  locale-specific enco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For an English locale, it behaves same as a PrintStr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ntWriter out = res.getWriter(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1: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velop Your Own HTML Web For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web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t contains the following contr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Name  (Text bo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ddress (Text bo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ge (Text box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r. / Mrs. / Miss (Radio button grou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and Submit but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name1=req.getParameter("Nam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address= req.getParameter("Addres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mrMrsMiss=req.getParameter("Group1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.print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HEAD&gt;&lt;TITLE&gt;Exercise4&lt;/TITLE&gt;"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FONT SIZE=\"6\"&gt;Exercise4:&lt;/FONT&gt;&lt;/HEAD&gt;"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BR&gt;&lt;BR&gt;&lt;HR&gt;"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BR&gt;&lt;FONT SIZE=\"5\"&gt;Servlet Response: &lt;BR&gt;&lt;BR&gt;&lt;BR&gt;"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/FONT&gt;Hello &amp;nbsp;"+mrMrsMiss+"&amp;nbsp;“ + name1 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",&amp;nbsp;glad to meet you!&lt;BR&gt;&lt;BR&gt;I'll contact you by e-mailing to the +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address:&amp;nbsp; “+address + "&lt;BR&gt;&lt;BR&gt;&lt;BR&gt;&lt;BR&gt;&lt;HR&gt;&lt;/BODY&gt;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.close();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5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ake Your Own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pplication Access the Databas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 the servlet from Exercise 4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at it inserts a new recor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o the database table of the us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he submitted data, before return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Hello…” confirmation p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Ex5.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x5.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Exercise5Servlet.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uti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http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sq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sun.jdbc.odbc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Exercise5Servlet extends HttpServlet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doPost(HttpServletRequest req,HttpServletResponse 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ows ServletException, IOException 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status ="nix";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.setContentType("text/html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ntWriter out = res.getWriter(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name1=req.getParameter("Nam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address= req.getParameter("Addres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mrMrsMiss=req.getParameter("Group1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age=req.getParameter("Age"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ion con=nul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load the JdbcOdbcDri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.forName("sun.jdbc.odbc.JdbcOdbcDriv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url = "jdbc:odbc:Exercise5Base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get a connection to the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= DriverManager.getConnection(url,"Exercise5Base", "sql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create a statement 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 stmt = con.createStatement();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execute an sql 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sql = "Insert into Members (Name,Address,Age,Title) values"+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('"+ name1 +"','"+ address +"','"+ age +"','"+ mrMrsMiss +"')" ;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execute(sql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ClassNotFound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Couldn't load database driver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SQL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SQLException caught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close the database 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ly {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con!=null) con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 (SQLException ignored)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.print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HEAD&gt;&lt;TITLE&gt;Exercise5&lt;/TITLE&gt;"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FONT SIZE=\"6\"&gt;Exercise5:&lt;/FONT&gt;&lt;/HEAD&gt;"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BR&gt;&lt;BR&gt;&lt;HR&gt;" 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BR&gt;&lt;FONT SIZE=\"5\"&gt;Servlet Response: &lt;BR&gt;&lt;BR&gt;&lt;BR&gt;"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&lt;/FONT&gt;Hello &amp;nbsp;"+mrMrsMiss+"&amp;nbsp;"+name1+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,&amp;nbsp;glad to meet you!&lt;BR&gt;&lt;BR&gt;I'll contact you by e-mailing to the” +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ress:&amp;nbsp; "+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ress + "&lt;BR&gt;&lt;BR&gt;&lt;BR&gt;&lt;BR&gt;&lt;HR&gt;&lt;/BODY&gt;") 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ut.close();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x5.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6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velop Your First Simple Web Appli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given infrastructure, develo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applic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a user from the databa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his/her name in the list box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y data for the selected user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ing the page from Exercise 5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Ex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6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evelop Your First Simple Web Applic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on the “submit” command go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irmation “Hello..” p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Ex6.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Ex6.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Ex6.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EAD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ITLE&gt;Exercise6&lt;/TITLE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FONT SIZE="6" &gt;Exercise6&lt;/FONT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ODY BACKGROUND="/examples/images/Back.gif"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plugin type="applet" code="Ticker.class" codebase="applets" width="200" height="35"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params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param name="fontname" value="Times New Roman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param name="fontsize" value="24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param name="text" value="Fill out this form!"/&gt;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jsp:params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fallback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P&gt;Unable to load applet&lt;/P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jsp:fallback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jsp:plugin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SCRIPT LANGUAGE="JavaScript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!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nction checkData (theForm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ReturnVal=fa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address=theForm.Address.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r age=Number(theForm.Age.valu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(address=="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rt("Address must not be empty!"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se if(isNaN(age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rt("Age must be non negative number!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se if(age&lt;0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rt("Age must be non negative number!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se ReturnVal=tru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Return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--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R&gt;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FORM NAME="Form1" ONSUBMIT="return checkData(this)" METHOD="POST" ACTION="/examples/servlet/Exercise6Servlet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%@ page language='java' import ="Exercise6Bean" %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jsp:useBean id="Bean" class="Exercise6Bean" scope="page"/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Name:&amp;nbsp;&amp;nbsp;&amp;nbsp;&amp;nbs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SELECT  NAME="Name" SIZE="1" MAXLENGTH=25&gt;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%= Bean.getName()%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&lt;/SELEC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res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Address" SIZE="25" MAXLENGTH=25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:&amp;nbsp;&amp;nbsp;&amp;nbsp;&amp;nbsp;&amp;nbsp;&amp;nbsp;&amp;nbsp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Age" SIZE="2" MAXLENGTH=2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adio" NAME="Group1" CHECKED VALUE="Mr."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nbsp;&amp;nbsp;&amp;nbsp;&amp;nbsp;&amp;nbsp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adio" NAME="Group1" VALUE="Mrs."&gt;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nbsp;&amp;nbsp;&amp;nbsp;&amp;nbsp;&amp;nbs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…………………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Exercise6Bean.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beans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sq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Exercise6Bean{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ivate String name=""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String getName(){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ion con=nul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Set rs=null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{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load the JdbcOdbcDri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.forName("sun.jdbc.odbc.JdbcOdbcDriv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url = "jdbc:odbc:Exercise5Base";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get a connection to the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= DriverManager.getConnection(url,"Exercise5Base", "sql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create a statement objec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 stmt = con.createStatement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execute an sql 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sql = "Select Name from Members" ;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=stmt.executeQuery(sql);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ile (rs.next(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= name+"&lt;OPTION&gt;" + rs.getString("Name");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// end tr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ClassNotFound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Couldn't load database driver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SQL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SQLException caught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 ! Exercise1.html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TITLE&gt;Exercise1&lt;/TITL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EAD&gt; &lt;FONT SIZE="6"&gt;Exercise1:&lt;/FONT&gt;&lt;/HEA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ODY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FORM NAME="Form1"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:&amp;nb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Name" SIZE="25" MAXLENGTH=25&gt;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dress: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Address" SIZE="25" MAXLENGTH=25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lt;B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close the database conn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nally {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(con!=null) con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 (SQLException ignored)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name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//end of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// end of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Ex6.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Exercise6Servlet. Ja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io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x.servlet.http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 java.sql.*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class Exercise6Servlet extends HttpServl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c void doPost(HttpServletRequest req,HttpServletResponse 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rows ServletException, IO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rvletOutputStream out = res.getOutputStrea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mrMrsMiss=req.getParameter("Group1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name1=req.getParameter("Name"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address= req.getParameter("Addres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age=req.getParameter("Age"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ion con=null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load the JdbcOdbcDriv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.forName("sun.jdbc.odbc.JdbcOdbcDriv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ring url = "jdbc:odbc:Exercise5Base";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get a connection to the 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= DriverManager.getConnection(url,"Exercise5Base", "sql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paredStatement stmt = con.prepareStatement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"UPDATE Members SET Address = ?, Age=?, Title=? WHERE Name = ?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setString(1, addres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setString(2, age)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setString(3, mrMrsMis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setString(4,name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mt.executeUpdate();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ClassNotFound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Couldn't load database driver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ch(SQLException e)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stem.out.println("SQLException caught: " + e.getMessag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}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//close the database connection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nally {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y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f (con!=null) con.clos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tch (SQLException ignored){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ut.print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HEAD&gt;&lt;TITLE&gt;Exercise6&lt;/TITLE&gt;"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FONT SIZE=\"6\"&gt;Exercise6:&lt;/FONT&gt;&lt;/HEAD&gt;“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BODY BACKGROUND=\"/examples/images/Back.gif\"&gt;"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BR&gt;&lt;BR&gt;&lt;IMG SRC=\"/examples/images/Aswoosh.gif\"&gt;" 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BR&gt;&lt;BR&gt;&lt;FONT SIZE=\"5\"&gt;Servlet Response &lt;BR&gt;&lt;BR&gt;&lt;BR&gt;"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/FONT&gt;Hello &amp;nbsp;"+mrMrsMiss+"&amp;nbsp;"+name1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,&amp;nbsp;glad to meet you!&lt;BR&gt;&lt;BR&gt;I'll contact you by e-mailing to the address:&amp;nbsp;”+ address+"." +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"&lt;BR&gt;&lt;BR&gt;&lt;BR&gt;&lt;BR&gt;&lt;IMG SRC=\"/examples/images/Aswoosh.gif\"&gt;&lt;/BODY&gt;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ut.printl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Ex6.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: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you have learn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7440" y="1981080"/>
            <a:ext cx="3962520" cy="3867120"/>
            <a:chOff x="2287440" y="1981080"/>
            <a:chExt cx="3962520" cy="3867120"/>
          </a:xfrm>
        </p:grpSpPr>
        <p:sp>
          <p:nvSpPr>
            <p:cNvPr id="144" name=""/>
            <p:cNvSpPr/>
            <p:nvPr/>
          </p:nvSpPr>
          <p:spPr>
            <a:xfrm>
              <a:off x="3595680" y="2635200"/>
              <a:ext cx="689040" cy="816120"/>
            </a:xfrm>
            <a:custGeom>
              <a:avLst/>
              <a:gdLst/>
              <a:ahLst/>
              <a:rect l="l" t="t" r="r" b="b"/>
              <a:pathLst>
                <a:path w="434" h="514">
                  <a:moveTo>
                    <a:pt x="132" y="186"/>
                  </a:moveTo>
                  <a:lnTo>
                    <a:pt x="157" y="114"/>
                  </a:lnTo>
                  <a:lnTo>
                    <a:pt x="189" y="42"/>
                  </a:lnTo>
                  <a:lnTo>
                    <a:pt x="236" y="6"/>
                  </a:lnTo>
                  <a:lnTo>
                    <a:pt x="302" y="0"/>
                  </a:lnTo>
                  <a:lnTo>
                    <a:pt x="355" y="24"/>
                  </a:lnTo>
                  <a:lnTo>
                    <a:pt x="393" y="63"/>
                  </a:lnTo>
                  <a:lnTo>
                    <a:pt x="421" y="135"/>
                  </a:lnTo>
                  <a:lnTo>
                    <a:pt x="434" y="222"/>
                  </a:lnTo>
                  <a:lnTo>
                    <a:pt x="434" y="312"/>
                  </a:lnTo>
                  <a:lnTo>
                    <a:pt x="412" y="411"/>
                  </a:lnTo>
                  <a:lnTo>
                    <a:pt x="355" y="474"/>
                  </a:lnTo>
                  <a:lnTo>
                    <a:pt x="299" y="514"/>
                  </a:lnTo>
                  <a:lnTo>
                    <a:pt x="245" y="510"/>
                  </a:lnTo>
                  <a:lnTo>
                    <a:pt x="198" y="468"/>
                  </a:lnTo>
                  <a:lnTo>
                    <a:pt x="157" y="396"/>
                  </a:lnTo>
                  <a:lnTo>
                    <a:pt x="129" y="333"/>
                  </a:lnTo>
                  <a:lnTo>
                    <a:pt x="129" y="252"/>
                  </a:lnTo>
                  <a:lnTo>
                    <a:pt x="0" y="234"/>
                  </a:lnTo>
                  <a:lnTo>
                    <a:pt x="16" y="189"/>
                  </a:lnTo>
                  <a:lnTo>
                    <a:pt x="132" y="18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51440" y="1981080"/>
              <a:ext cx="898560" cy="1832040"/>
            </a:xfrm>
            <a:custGeom>
              <a:avLst/>
              <a:gdLst/>
              <a:ahLst/>
              <a:rect l="l" t="t" r="r" b="b"/>
              <a:pathLst>
                <a:path w="566" h="1154">
                  <a:moveTo>
                    <a:pt x="13" y="1145"/>
                  </a:moveTo>
                  <a:lnTo>
                    <a:pt x="0" y="1088"/>
                  </a:lnTo>
                  <a:lnTo>
                    <a:pt x="31" y="1042"/>
                  </a:lnTo>
                  <a:lnTo>
                    <a:pt x="134" y="988"/>
                  </a:lnTo>
                  <a:lnTo>
                    <a:pt x="226" y="927"/>
                  </a:lnTo>
                  <a:lnTo>
                    <a:pt x="313" y="827"/>
                  </a:lnTo>
                  <a:lnTo>
                    <a:pt x="432" y="689"/>
                  </a:lnTo>
                  <a:lnTo>
                    <a:pt x="463" y="634"/>
                  </a:lnTo>
                  <a:lnTo>
                    <a:pt x="479" y="580"/>
                  </a:lnTo>
                  <a:lnTo>
                    <a:pt x="472" y="526"/>
                  </a:lnTo>
                  <a:lnTo>
                    <a:pt x="444" y="426"/>
                  </a:lnTo>
                  <a:lnTo>
                    <a:pt x="376" y="299"/>
                  </a:lnTo>
                  <a:lnTo>
                    <a:pt x="301" y="229"/>
                  </a:lnTo>
                  <a:lnTo>
                    <a:pt x="235" y="190"/>
                  </a:lnTo>
                  <a:lnTo>
                    <a:pt x="181" y="184"/>
                  </a:lnTo>
                  <a:lnTo>
                    <a:pt x="153" y="190"/>
                  </a:lnTo>
                  <a:lnTo>
                    <a:pt x="150" y="163"/>
                  </a:lnTo>
                  <a:lnTo>
                    <a:pt x="215" y="154"/>
                  </a:lnTo>
                  <a:lnTo>
                    <a:pt x="291" y="154"/>
                  </a:lnTo>
                  <a:lnTo>
                    <a:pt x="238" y="93"/>
                  </a:lnTo>
                  <a:lnTo>
                    <a:pt x="206" y="45"/>
                  </a:lnTo>
                  <a:lnTo>
                    <a:pt x="229" y="27"/>
                  </a:lnTo>
                  <a:lnTo>
                    <a:pt x="313" y="109"/>
                  </a:lnTo>
                  <a:lnTo>
                    <a:pt x="329" y="121"/>
                  </a:lnTo>
                  <a:lnTo>
                    <a:pt x="313" y="57"/>
                  </a:lnTo>
                  <a:lnTo>
                    <a:pt x="301" y="9"/>
                  </a:lnTo>
                  <a:lnTo>
                    <a:pt x="313" y="0"/>
                  </a:lnTo>
                  <a:lnTo>
                    <a:pt x="341" y="9"/>
                  </a:lnTo>
                  <a:lnTo>
                    <a:pt x="366" y="121"/>
                  </a:lnTo>
                  <a:lnTo>
                    <a:pt x="379" y="118"/>
                  </a:lnTo>
                  <a:lnTo>
                    <a:pt x="379" y="30"/>
                  </a:lnTo>
                  <a:lnTo>
                    <a:pt x="404" y="21"/>
                  </a:lnTo>
                  <a:lnTo>
                    <a:pt x="422" y="36"/>
                  </a:lnTo>
                  <a:lnTo>
                    <a:pt x="413" y="154"/>
                  </a:lnTo>
                  <a:lnTo>
                    <a:pt x="407" y="202"/>
                  </a:lnTo>
                  <a:lnTo>
                    <a:pt x="422" y="299"/>
                  </a:lnTo>
                  <a:lnTo>
                    <a:pt x="472" y="402"/>
                  </a:lnTo>
                  <a:lnTo>
                    <a:pt x="525" y="520"/>
                  </a:lnTo>
                  <a:lnTo>
                    <a:pt x="566" y="607"/>
                  </a:lnTo>
                  <a:lnTo>
                    <a:pt x="563" y="652"/>
                  </a:lnTo>
                  <a:lnTo>
                    <a:pt x="488" y="734"/>
                  </a:lnTo>
                  <a:lnTo>
                    <a:pt x="385" y="836"/>
                  </a:lnTo>
                  <a:lnTo>
                    <a:pt x="301" y="937"/>
                  </a:lnTo>
                  <a:lnTo>
                    <a:pt x="197" y="1070"/>
                  </a:lnTo>
                  <a:lnTo>
                    <a:pt x="112" y="1136"/>
                  </a:lnTo>
                  <a:lnTo>
                    <a:pt x="47" y="1154"/>
                  </a:lnTo>
                  <a:lnTo>
                    <a:pt x="13" y="11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7440" y="3689280"/>
              <a:ext cx="1646280" cy="922320"/>
            </a:xfrm>
            <a:custGeom>
              <a:avLst/>
              <a:gdLst/>
              <a:ahLst/>
              <a:rect l="l" t="t" r="r" b="b"/>
              <a:pathLst>
                <a:path w="1037" h="581">
                  <a:moveTo>
                    <a:pt x="210" y="468"/>
                  </a:moveTo>
                  <a:lnTo>
                    <a:pt x="361" y="462"/>
                  </a:lnTo>
                  <a:lnTo>
                    <a:pt x="498" y="444"/>
                  </a:lnTo>
                  <a:lnTo>
                    <a:pt x="583" y="423"/>
                  </a:lnTo>
                  <a:lnTo>
                    <a:pt x="705" y="354"/>
                  </a:lnTo>
                  <a:lnTo>
                    <a:pt x="792" y="288"/>
                  </a:lnTo>
                  <a:lnTo>
                    <a:pt x="906" y="207"/>
                  </a:lnTo>
                  <a:lnTo>
                    <a:pt x="959" y="156"/>
                  </a:lnTo>
                  <a:lnTo>
                    <a:pt x="1000" y="120"/>
                  </a:lnTo>
                  <a:lnTo>
                    <a:pt x="1037" y="81"/>
                  </a:lnTo>
                  <a:lnTo>
                    <a:pt x="1037" y="39"/>
                  </a:lnTo>
                  <a:lnTo>
                    <a:pt x="996" y="0"/>
                  </a:lnTo>
                  <a:lnTo>
                    <a:pt x="971" y="9"/>
                  </a:lnTo>
                  <a:lnTo>
                    <a:pt x="903" y="90"/>
                  </a:lnTo>
                  <a:lnTo>
                    <a:pt x="828" y="183"/>
                  </a:lnTo>
                  <a:lnTo>
                    <a:pt x="752" y="270"/>
                  </a:lnTo>
                  <a:lnTo>
                    <a:pt x="642" y="342"/>
                  </a:lnTo>
                  <a:lnTo>
                    <a:pt x="548" y="390"/>
                  </a:lnTo>
                  <a:lnTo>
                    <a:pt x="445" y="414"/>
                  </a:lnTo>
                  <a:lnTo>
                    <a:pt x="301" y="417"/>
                  </a:lnTo>
                  <a:lnTo>
                    <a:pt x="216" y="417"/>
                  </a:lnTo>
                  <a:lnTo>
                    <a:pt x="144" y="363"/>
                  </a:lnTo>
                  <a:lnTo>
                    <a:pt x="125" y="327"/>
                  </a:lnTo>
                  <a:lnTo>
                    <a:pt x="94" y="327"/>
                  </a:lnTo>
                  <a:lnTo>
                    <a:pt x="116" y="372"/>
                  </a:lnTo>
                  <a:lnTo>
                    <a:pt x="150" y="414"/>
                  </a:lnTo>
                  <a:lnTo>
                    <a:pt x="66" y="396"/>
                  </a:lnTo>
                  <a:lnTo>
                    <a:pt x="3" y="387"/>
                  </a:lnTo>
                  <a:lnTo>
                    <a:pt x="3" y="405"/>
                  </a:lnTo>
                  <a:lnTo>
                    <a:pt x="59" y="417"/>
                  </a:lnTo>
                  <a:lnTo>
                    <a:pt x="97" y="441"/>
                  </a:lnTo>
                  <a:lnTo>
                    <a:pt x="131" y="444"/>
                  </a:lnTo>
                  <a:lnTo>
                    <a:pt x="78" y="462"/>
                  </a:lnTo>
                  <a:lnTo>
                    <a:pt x="0" y="481"/>
                  </a:lnTo>
                  <a:lnTo>
                    <a:pt x="3" y="499"/>
                  </a:lnTo>
                  <a:lnTo>
                    <a:pt x="28" y="505"/>
                  </a:lnTo>
                  <a:lnTo>
                    <a:pt x="103" y="481"/>
                  </a:lnTo>
                  <a:lnTo>
                    <a:pt x="150" y="477"/>
                  </a:lnTo>
                  <a:lnTo>
                    <a:pt x="122" y="505"/>
                  </a:lnTo>
                  <a:lnTo>
                    <a:pt x="78" y="550"/>
                  </a:lnTo>
                  <a:lnTo>
                    <a:pt x="59" y="562"/>
                  </a:lnTo>
                  <a:lnTo>
                    <a:pt x="75" y="581"/>
                  </a:lnTo>
                  <a:lnTo>
                    <a:pt x="113" y="559"/>
                  </a:lnTo>
                  <a:lnTo>
                    <a:pt x="163" y="514"/>
                  </a:lnTo>
                  <a:lnTo>
                    <a:pt x="210" y="4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3760" y="3594240"/>
              <a:ext cx="965160" cy="1269720"/>
            </a:xfrm>
            <a:custGeom>
              <a:avLst/>
              <a:gdLst/>
              <a:ahLst/>
              <a:rect l="l" t="t" r="r" b="b"/>
              <a:pathLst>
                <a:path w="608" h="800">
                  <a:moveTo>
                    <a:pt x="38" y="90"/>
                  </a:moveTo>
                  <a:lnTo>
                    <a:pt x="63" y="27"/>
                  </a:lnTo>
                  <a:lnTo>
                    <a:pt x="104" y="0"/>
                  </a:lnTo>
                  <a:lnTo>
                    <a:pt x="141" y="0"/>
                  </a:lnTo>
                  <a:lnTo>
                    <a:pt x="179" y="18"/>
                  </a:lnTo>
                  <a:lnTo>
                    <a:pt x="216" y="54"/>
                  </a:lnTo>
                  <a:lnTo>
                    <a:pt x="235" y="117"/>
                  </a:lnTo>
                  <a:lnTo>
                    <a:pt x="245" y="180"/>
                  </a:lnTo>
                  <a:lnTo>
                    <a:pt x="263" y="243"/>
                  </a:lnTo>
                  <a:lnTo>
                    <a:pt x="298" y="312"/>
                  </a:lnTo>
                  <a:lnTo>
                    <a:pt x="357" y="384"/>
                  </a:lnTo>
                  <a:lnTo>
                    <a:pt x="415" y="432"/>
                  </a:lnTo>
                  <a:lnTo>
                    <a:pt x="499" y="468"/>
                  </a:lnTo>
                  <a:lnTo>
                    <a:pt x="571" y="522"/>
                  </a:lnTo>
                  <a:lnTo>
                    <a:pt x="608" y="577"/>
                  </a:lnTo>
                  <a:lnTo>
                    <a:pt x="602" y="622"/>
                  </a:lnTo>
                  <a:lnTo>
                    <a:pt x="593" y="676"/>
                  </a:lnTo>
                  <a:lnTo>
                    <a:pt x="565" y="712"/>
                  </a:lnTo>
                  <a:lnTo>
                    <a:pt x="518" y="757"/>
                  </a:lnTo>
                  <a:lnTo>
                    <a:pt x="449" y="790"/>
                  </a:lnTo>
                  <a:lnTo>
                    <a:pt x="396" y="800"/>
                  </a:lnTo>
                  <a:lnTo>
                    <a:pt x="320" y="784"/>
                  </a:lnTo>
                  <a:lnTo>
                    <a:pt x="251" y="748"/>
                  </a:lnTo>
                  <a:lnTo>
                    <a:pt x="179" y="694"/>
                  </a:lnTo>
                  <a:lnTo>
                    <a:pt x="129" y="631"/>
                  </a:lnTo>
                  <a:lnTo>
                    <a:pt x="82" y="550"/>
                  </a:lnTo>
                  <a:lnTo>
                    <a:pt x="44" y="456"/>
                  </a:lnTo>
                  <a:lnTo>
                    <a:pt x="19" y="375"/>
                  </a:lnTo>
                  <a:lnTo>
                    <a:pt x="7" y="297"/>
                  </a:lnTo>
                  <a:lnTo>
                    <a:pt x="0" y="189"/>
                  </a:lnTo>
                  <a:lnTo>
                    <a:pt x="19" y="117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94320" y="4137120"/>
              <a:ext cx="1655640" cy="1152360"/>
            </a:xfrm>
            <a:custGeom>
              <a:avLst/>
              <a:gdLst/>
              <a:ahLst/>
              <a:rect l="l" t="t" r="r" b="b"/>
              <a:pathLst>
                <a:path w="1043" h="726">
                  <a:moveTo>
                    <a:pt x="116" y="230"/>
                  </a:moveTo>
                  <a:lnTo>
                    <a:pt x="216" y="147"/>
                  </a:lnTo>
                  <a:lnTo>
                    <a:pt x="338" y="72"/>
                  </a:lnTo>
                  <a:lnTo>
                    <a:pt x="417" y="27"/>
                  </a:lnTo>
                  <a:lnTo>
                    <a:pt x="479" y="12"/>
                  </a:lnTo>
                  <a:lnTo>
                    <a:pt x="529" y="0"/>
                  </a:lnTo>
                  <a:lnTo>
                    <a:pt x="573" y="18"/>
                  </a:lnTo>
                  <a:lnTo>
                    <a:pt x="601" y="75"/>
                  </a:lnTo>
                  <a:lnTo>
                    <a:pt x="620" y="230"/>
                  </a:lnTo>
                  <a:lnTo>
                    <a:pt x="620" y="416"/>
                  </a:lnTo>
                  <a:lnTo>
                    <a:pt x="620" y="536"/>
                  </a:lnTo>
                  <a:lnTo>
                    <a:pt x="642" y="609"/>
                  </a:lnTo>
                  <a:lnTo>
                    <a:pt x="686" y="597"/>
                  </a:lnTo>
                  <a:lnTo>
                    <a:pt x="717" y="552"/>
                  </a:lnTo>
                  <a:lnTo>
                    <a:pt x="779" y="500"/>
                  </a:lnTo>
                  <a:lnTo>
                    <a:pt x="876" y="470"/>
                  </a:lnTo>
                  <a:lnTo>
                    <a:pt x="943" y="470"/>
                  </a:lnTo>
                  <a:lnTo>
                    <a:pt x="1043" y="488"/>
                  </a:lnTo>
                  <a:lnTo>
                    <a:pt x="1037" y="524"/>
                  </a:lnTo>
                  <a:lnTo>
                    <a:pt x="1015" y="555"/>
                  </a:lnTo>
                  <a:lnTo>
                    <a:pt x="981" y="561"/>
                  </a:lnTo>
                  <a:lnTo>
                    <a:pt x="943" y="542"/>
                  </a:lnTo>
                  <a:lnTo>
                    <a:pt x="886" y="518"/>
                  </a:lnTo>
                  <a:lnTo>
                    <a:pt x="829" y="518"/>
                  </a:lnTo>
                  <a:lnTo>
                    <a:pt x="754" y="564"/>
                  </a:lnTo>
                  <a:lnTo>
                    <a:pt x="708" y="633"/>
                  </a:lnTo>
                  <a:lnTo>
                    <a:pt x="698" y="690"/>
                  </a:lnTo>
                  <a:lnTo>
                    <a:pt x="679" y="726"/>
                  </a:lnTo>
                  <a:lnTo>
                    <a:pt x="604" y="723"/>
                  </a:lnTo>
                  <a:lnTo>
                    <a:pt x="601" y="669"/>
                  </a:lnTo>
                  <a:lnTo>
                    <a:pt x="576" y="591"/>
                  </a:lnTo>
                  <a:lnTo>
                    <a:pt x="567" y="509"/>
                  </a:lnTo>
                  <a:lnTo>
                    <a:pt x="573" y="401"/>
                  </a:lnTo>
                  <a:lnTo>
                    <a:pt x="564" y="248"/>
                  </a:lnTo>
                  <a:lnTo>
                    <a:pt x="558" y="147"/>
                  </a:lnTo>
                  <a:lnTo>
                    <a:pt x="539" y="111"/>
                  </a:lnTo>
                  <a:lnTo>
                    <a:pt x="501" y="75"/>
                  </a:lnTo>
                  <a:lnTo>
                    <a:pt x="461" y="75"/>
                  </a:lnTo>
                  <a:lnTo>
                    <a:pt x="403" y="111"/>
                  </a:lnTo>
                  <a:lnTo>
                    <a:pt x="328" y="181"/>
                  </a:lnTo>
                  <a:lnTo>
                    <a:pt x="235" y="272"/>
                  </a:lnTo>
                  <a:lnTo>
                    <a:pt x="141" y="356"/>
                  </a:lnTo>
                  <a:lnTo>
                    <a:pt x="94" y="383"/>
                  </a:lnTo>
                  <a:lnTo>
                    <a:pt x="38" y="383"/>
                  </a:lnTo>
                  <a:lnTo>
                    <a:pt x="0" y="344"/>
                  </a:lnTo>
                  <a:lnTo>
                    <a:pt x="3" y="281"/>
                  </a:lnTo>
                  <a:lnTo>
                    <a:pt x="41" y="248"/>
                  </a:lnTo>
                  <a:lnTo>
                    <a:pt x="84" y="239"/>
                  </a:lnTo>
                  <a:lnTo>
                    <a:pt x="116" y="2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05400" y="4638600"/>
              <a:ext cx="1131840" cy="1209600"/>
            </a:xfrm>
            <a:custGeom>
              <a:avLst/>
              <a:gdLst/>
              <a:ahLst/>
              <a:rect l="l" t="t" r="r" b="b"/>
              <a:pathLst>
                <a:path w="713" h="762">
                  <a:moveTo>
                    <a:pt x="0" y="64"/>
                  </a:moveTo>
                  <a:lnTo>
                    <a:pt x="22" y="16"/>
                  </a:lnTo>
                  <a:lnTo>
                    <a:pt x="69" y="0"/>
                  </a:lnTo>
                  <a:lnTo>
                    <a:pt x="134" y="7"/>
                  </a:lnTo>
                  <a:lnTo>
                    <a:pt x="150" y="52"/>
                  </a:lnTo>
                  <a:lnTo>
                    <a:pt x="125" y="227"/>
                  </a:lnTo>
                  <a:lnTo>
                    <a:pt x="122" y="360"/>
                  </a:lnTo>
                  <a:lnTo>
                    <a:pt x="116" y="435"/>
                  </a:lnTo>
                  <a:lnTo>
                    <a:pt x="116" y="450"/>
                  </a:lnTo>
                  <a:lnTo>
                    <a:pt x="131" y="524"/>
                  </a:lnTo>
                  <a:lnTo>
                    <a:pt x="172" y="536"/>
                  </a:lnTo>
                  <a:lnTo>
                    <a:pt x="225" y="524"/>
                  </a:lnTo>
                  <a:lnTo>
                    <a:pt x="303" y="481"/>
                  </a:lnTo>
                  <a:lnTo>
                    <a:pt x="387" y="460"/>
                  </a:lnTo>
                  <a:lnTo>
                    <a:pt x="482" y="444"/>
                  </a:lnTo>
                  <a:lnTo>
                    <a:pt x="585" y="432"/>
                  </a:lnTo>
                  <a:lnTo>
                    <a:pt x="660" y="432"/>
                  </a:lnTo>
                  <a:lnTo>
                    <a:pt x="694" y="441"/>
                  </a:lnTo>
                  <a:lnTo>
                    <a:pt x="713" y="463"/>
                  </a:lnTo>
                  <a:lnTo>
                    <a:pt x="704" y="496"/>
                  </a:lnTo>
                  <a:lnTo>
                    <a:pt x="657" y="524"/>
                  </a:lnTo>
                  <a:lnTo>
                    <a:pt x="613" y="563"/>
                  </a:lnTo>
                  <a:lnTo>
                    <a:pt x="572" y="618"/>
                  </a:lnTo>
                  <a:lnTo>
                    <a:pt x="547" y="663"/>
                  </a:lnTo>
                  <a:lnTo>
                    <a:pt x="526" y="708"/>
                  </a:lnTo>
                  <a:lnTo>
                    <a:pt x="510" y="762"/>
                  </a:lnTo>
                  <a:lnTo>
                    <a:pt x="488" y="762"/>
                  </a:lnTo>
                  <a:lnTo>
                    <a:pt x="469" y="741"/>
                  </a:lnTo>
                  <a:lnTo>
                    <a:pt x="462" y="681"/>
                  </a:lnTo>
                  <a:lnTo>
                    <a:pt x="507" y="627"/>
                  </a:lnTo>
                  <a:lnTo>
                    <a:pt x="566" y="563"/>
                  </a:lnTo>
                  <a:lnTo>
                    <a:pt x="622" y="515"/>
                  </a:lnTo>
                  <a:lnTo>
                    <a:pt x="647" y="499"/>
                  </a:lnTo>
                  <a:lnTo>
                    <a:pt x="657" y="478"/>
                  </a:lnTo>
                  <a:lnTo>
                    <a:pt x="632" y="463"/>
                  </a:lnTo>
                  <a:lnTo>
                    <a:pt x="547" y="463"/>
                  </a:lnTo>
                  <a:lnTo>
                    <a:pt x="440" y="481"/>
                  </a:lnTo>
                  <a:lnTo>
                    <a:pt x="356" y="509"/>
                  </a:lnTo>
                  <a:lnTo>
                    <a:pt x="265" y="560"/>
                  </a:lnTo>
                  <a:lnTo>
                    <a:pt x="187" y="596"/>
                  </a:lnTo>
                  <a:lnTo>
                    <a:pt x="103" y="599"/>
                  </a:lnTo>
                  <a:lnTo>
                    <a:pt x="69" y="587"/>
                  </a:lnTo>
                  <a:lnTo>
                    <a:pt x="50" y="542"/>
                  </a:lnTo>
                  <a:lnTo>
                    <a:pt x="37" y="478"/>
                  </a:lnTo>
                  <a:lnTo>
                    <a:pt x="31" y="360"/>
                  </a:lnTo>
                  <a:lnTo>
                    <a:pt x="19" y="151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16520" y="4538520"/>
            <a:ext cx="685800" cy="1392480"/>
            <a:chOff x="5816520" y="4538520"/>
            <a:chExt cx="685800" cy="1392480"/>
          </a:xfrm>
        </p:grpSpPr>
        <p:sp>
          <p:nvSpPr>
            <p:cNvPr id="151" name=""/>
            <p:cNvSpPr/>
            <p:nvPr/>
          </p:nvSpPr>
          <p:spPr>
            <a:xfrm>
              <a:off x="5962680" y="5315040"/>
              <a:ext cx="539640" cy="172800"/>
            </a:xfrm>
            <a:custGeom>
              <a:avLst/>
              <a:gdLst/>
              <a:ahLst/>
              <a:rect l="l" t="t" r="r" b="b"/>
              <a:pathLst>
                <a:path w="340" h="109">
                  <a:moveTo>
                    <a:pt x="340" y="109"/>
                  </a:moveTo>
                  <a:lnTo>
                    <a:pt x="165" y="30"/>
                  </a:lnTo>
                  <a:lnTo>
                    <a:pt x="48" y="0"/>
                  </a:lnTo>
                  <a:lnTo>
                    <a:pt x="10" y="0"/>
                  </a:lnTo>
                  <a:lnTo>
                    <a:pt x="0" y="27"/>
                  </a:lnTo>
                  <a:lnTo>
                    <a:pt x="22" y="48"/>
                  </a:lnTo>
                  <a:lnTo>
                    <a:pt x="70" y="54"/>
                  </a:lnTo>
                  <a:lnTo>
                    <a:pt x="184" y="75"/>
                  </a:lnTo>
                  <a:lnTo>
                    <a:pt x="340" y="10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6520" y="5468760"/>
              <a:ext cx="154080" cy="462240"/>
            </a:xfrm>
            <a:custGeom>
              <a:avLst/>
              <a:gdLst/>
              <a:ahLst/>
              <a:rect l="l" t="t" r="r" b="b"/>
              <a:pathLst>
                <a:path w="97" h="291">
                  <a:moveTo>
                    <a:pt x="97" y="291"/>
                  </a:moveTo>
                  <a:lnTo>
                    <a:pt x="94" y="148"/>
                  </a:lnTo>
                  <a:lnTo>
                    <a:pt x="69" y="39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12"/>
                  </a:lnTo>
                  <a:lnTo>
                    <a:pt x="0" y="54"/>
                  </a:lnTo>
                  <a:lnTo>
                    <a:pt x="47" y="184"/>
                  </a:lnTo>
                  <a:lnTo>
                    <a:pt x="97" y="2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9000" y="4538520"/>
              <a:ext cx="339480" cy="176400"/>
            </a:xfrm>
            <a:custGeom>
              <a:avLst/>
              <a:gdLst/>
              <a:ahLst/>
              <a:rect l="l" t="t" r="r" b="b"/>
              <a:pathLst>
                <a:path w="214" h="111">
                  <a:moveTo>
                    <a:pt x="0" y="72"/>
                  </a:moveTo>
                  <a:lnTo>
                    <a:pt x="42" y="30"/>
                  </a:lnTo>
                  <a:lnTo>
                    <a:pt x="100" y="3"/>
                  </a:lnTo>
                  <a:lnTo>
                    <a:pt x="166" y="0"/>
                  </a:lnTo>
                  <a:lnTo>
                    <a:pt x="214" y="9"/>
                  </a:lnTo>
                  <a:lnTo>
                    <a:pt x="138" y="18"/>
                  </a:lnTo>
                  <a:lnTo>
                    <a:pt x="109" y="36"/>
                  </a:lnTo>
                  <a:lnTo>
                    <a:pt x="81" y="63"/>
                  </a:lnTo>
                  <a:lnTo>
                    <a:pt x="68" y="93"/>
                  </a:lnTo>
                  <a:lnTo>
                    <a:pt x="42" y="111"/>
                  </a:lnTo>
                  <a:lnTo>
                    <a:pt x="10" y="10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text" NAME="Age" SIZE="2" MAXLENGTH=2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.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adio" NAME="Group1" CHECKED VALUE="Mr.”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adio" NAME="Group1" VALUE="Mrs.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adio" NAME="Group1" VALUE="Miss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BR&gt;&lt;BR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submit" VALUE="Submit" 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nbsp;&amp;nbs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INPUT TYPE="reset" VALUE="Reset"&gt;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FOR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HR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rcise 2: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Validate Your Form’s Dat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 the form from Exercise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at the user cannot submit the Fo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 the Name field is empt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the Age field contains a negative numb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ovide a message in these cases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upon pressing the submit butt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x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x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Ex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7T13:29:38Z</dcterms:created>
  <dc:creator>Miroslava Mitrovic</dc:creator>
  <dc:description/>
  <dc:language>en-US</dc:language>
  <cp:lastModifiedBy>Miroslava Mitrovic</cp:lastModifiedBy>
  <dcterms:modified xsi:type="dcterms:W3CDTF">2000-02-03T09:40:34Z</dcterms:modified>
  <cp:revision>54</cp:revision>
  <dc:subject/>
  <dc:title>Exercises</dc:title>
</cp:coreProperties>
</file>